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C09-7970-454E-AB9B-C5846164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A9B-BE6F-4428-88E6-CA8BAD2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6119E-9181-49FD-9086-F40A2159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C57F2-A30F-484B-8F31-0D74564E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873A9-A2CF-4C69-B4A6-80EF2792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10A07-2253-4F78-9FBE-6E1036D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59C19-D6F0-4CD9-9F0A-077BE6D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C9532-FA3E-4E36-B979-DC81FC6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60807-AA1A-448D-A73B-61A80BDF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CF1E7-9C55-4F34-931B-1AD72CE2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88548-1079-4705-B8B4-C790AEBC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F84DE-DBE8-4F82-8174-94B7EE60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C94-1776-4A4B-A231-585AB314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F6EFA-33A0-479D-A952-1A177E2D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4C704-B79E-40A9-BF8F-525CC19C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681DD-FD15-49E6-AD0D-46B25E6F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BB3BB-DA82-49FA-90C4-68572B16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EAE38-6EEC-469A-86E6-95374B82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62C8A-3646-4F4F-A9D3-D6F60144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59CDC-046E-4945-B230-8D7F07BF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BA220-690A-4EDE-B3A6-3071376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28EF8-2F46-4F30-A249-2648C43C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9091E-D41F-4BF0-B225-56F98472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FA9-05F6-4161-88AA-23015ACC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F5366-D168-4937-9C5A-2C11917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23601-EED6-43F4-9DAD-EE1E1C06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3DA89-CDE4-47ED-AC2A-B47211CA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844CC-9451-48DD-B22E-394C927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910E5-8D88-42C0-81F8-A746F2BD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28F43-F78D-4043-8B2B-E938C20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08B11-988C-422E-AC7C-65897DEE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DD217-10B2-4FB4-8F1F-8BAF76F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C5B5E-7359-4C2B-9688-46953AC4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0E66D-D26B-4ACD-94AC-0C367A0A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0ACE-1EEE-449C-9146-FF7E9375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73BF0-6D10-449A-90AF-93CD6AC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5667C-C279-4EFF-A8F0-D53ECA1C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57B53-D433-4669-AA84-A5BDAABF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48530-6D5E-44BA-A589-CBE613EB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4CBA1-43FA-449D-800A-34781A6E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74E4F-1C52-4860-B63C-4B065CC1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8A7DE-DEC6-427C-AFB2-64FEA14B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D65C1-CCD8-459C-8611-785D1950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9C657-24A0-449A-8FAD-F5C49ECA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8927B-4FBC-4B3D-94BF-A846E59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E700-5227-402C-BE00-7EDF7DFF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E2058-1EC7-4E2F-95BD-16FD0C0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A816E-5245-4E64-A311-2CC583A0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6555D-78EB-4D4A-8D04-00EE1C16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B7EFE-7FB0-4005-8D4D-A22D3D0C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C8DC1-5C16-4EDB-B6B5-F5B9C064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C4446-6C7C-457C-90E0-A9EABA7D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6FE90-C607-4CC5-8B5D-5429FF9A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8EE31-9852-46A8-B7B7-AC94B500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731B7-D606-4F88-A825-8C3AC8BB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33755-4BEE-4CEF-B3FA-B4BC3F1F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26A0-DC15-45B5-AA53-B8F02048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0E5A7-E4E5-45CC-9126-7BD017E0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991F5-CF04-4271-845C-18712D9E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0F673-6071-4FFF-AEF9-D29F84F7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4041E-DE15-402B-B39A-5538552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D72CD-4763-4F9D-BDC4-9542C401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39919-9AED-4EEE-9811-7968A40E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AD364-CB51-4054-BD7E-80AF55FE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19062-3CC9-4DBC-A178-DCEFB26E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5A27F-8628-4EA3-B668-1516943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9720D-707E-4CFE-B61C-01667979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6CBD-AA67-4237-B3F9-6938BE90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DFD70-7AD6-4402-AEC2-0B021E14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F262C-D6BA-4C00-BA00-C16CACBC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F827D-5CC7-4425-9877-300E7E97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CDEC9-5F2D-4AB2-983D-041D7037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AE9F7-35B8-4E3E-8889-A4C8032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B0A0F-9516-41B2-8260-01622D73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D21E9-1E27-4E94-B3DE-74A9F5D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7713E-6AF8-4A40-8495-CE46377E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3BCC5-8EBC-4C12-9E28-04541033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F5F18-DC02-4085-AF4E-E025114D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EBBF-E2AB-4BA9-9DE3-9375DAD8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C252F-D0BB-42C2-BFE4-E16829EC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4E5CC-BDAC-4A4D-AC40-9689BE05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D51FE-2917-41EE-A4DF-26FBF603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FE9A6-4F70-4951-910E-C53F5032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CEF5A-B25D-4AD7-84A7-B16C64A3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8B739-32FA-440E-85F5-B0AA9CAD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1F661-06D1-46F1-A2A3-96192885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6317B-503B-499D-AA96-190369D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02652-9D4B-46B7-9DBE-F4D08B21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F4607-EAE6-477A-AD60-D2616BB9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19A0-5A18-4E3D-A1DE-B9F7FCB8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3D64F-625E-4404-A9F5-9284FDCF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DB3CE-47AC-41B5-82F3-DC141875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2339C-B91F-41A9-9684-8F0419BD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B5C6F-409A-4A0B-B2A9-BC1174E7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C0F49-D5BE-41A2-B038-3633963E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75EAD-7AC6-4FF4-9D28-12B1FEBF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D360B-08A9-46DF-AD4F-BE95E30F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457E09-6D3B-47C6-8B78-70FA094F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955AC-F69E-4E1D-98CD-3AC9AC56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8B2CC-822A-48B0-9A8E-25A1B28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7E60-A2C4-4741-989F-4F020E6F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4B8F4-4EE8-4710-93EF-D8321EC0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270EA-4CA1-43A8-A751-642C7AD3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146D9-0EFA-48C3-BFBD-8020A0AB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D067C-BE77-42A4-9B12-595207E7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ED1E9-9D6C-45A6-97B1-C7B1858B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8C73D9-4301-49AA-BEF1-D6014531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E1745-C08C-4887-B52A-64DDD2E5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9FB9A-C8CC-4B0A-B62C-AD89D584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213FA-CB1B-443B-864F-B017910E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D984CF-4B5A-4B82-943A-ED9A56C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C40-DA41-40E6-8A0C-53AE8776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7B3F-4AB9-4CA2-ADBC-DE75D8E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C9140-BF63-4415-8CA2-5F3341A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D62EE-4D7E-4A84-8920-BDE02852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245B0-9E00-4D93-B37A-A0A78240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1A260-C844-4C01-97BC-7A127783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0FF07-FB9B-4210-87DB-B4FD7A23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37B16-6774-4193-B415-CA21F31B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B8586-3B6C-476E-A0E5-9B3578EF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73D9C-49C1-4112-8585-E1F0ECA5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F4ED9-456E-4FFE-BF26-8DB34185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2537D-D83F-459F-8530-517069C6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F14B-A837-46D0-9C57-1AD78CE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E89F3-D1E5-4660-A9FC-0917BCA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F5CA0-B0BE-4FA9-9024-A62452B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3518DF-A396-4FD1-B2A3-15AF12E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7E6AA-6B5C-475F-A722-28820E4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6614A5-9FB0-4796-A293-63E97F33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47F04-3D1F-43B7-BE85-F338D15B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A3914-EAA9-4474-AAE7-D4433A1E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E136F-9FD7-486A-AD2D-706BF6FA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5ED60-ACD1-405C-BEE7-AF936784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357B3-B474-45EC-93D1-730FA48A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0815-BE34-416C-9B99-EFB74D9F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1A678-524E-4A06-B7FF-23718D3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4CC68-C947-4EC3-AE2E-02CB701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E6FED-BBED-4F06-A6AB-7ACDCDC1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DCF5D-6996-4065-BD6D-F8B33757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B653E-D4A4-43C8-B8FF-210A1B46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C2BB4-DD55-47FF-A5F0-A111B0F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22F3E-F6C9-4253-9DA7-E075CB5D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F3D9C-892A-46D7-BF59-E4E8D41B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F7B15-5D75-4053-9BD2-D9483415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43E75-CB28-413F-B633-61780014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D051-F29F-44C4-8045-FC32192F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C5F16-EB57-4C44-A30F-5B461F73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81214-DF04-4269-9F56-D4197CA7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31DEE-BBAD-4729-97A7-7EACCCFA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70B4A-7F7A-444D-BF4F-6F77F32B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9A7F8-1315-43AA-88EC-5868182D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F23E0-FD07-4300-A723-C8297841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5799C-D541-4D9C-BB3C-DED47F1E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0EADAD-D340-4F6B-BF93-0AA2C7EE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FC3F4-071D-49EB-B016-4D5D08F9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8A859-3DD9-47C8-B375-96286668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6270-02FB-46FC-B28D-9062B08F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624D5-FB18-4611-A40F-461F7CE4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6F3AF2-7520-4B7C-A4C6-6B63B432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27B2B-8CB8-41BD-B3BE-A5CF8FF0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92C073-D950-4EAB-8C07-44BB9617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E80D77-2E6D-47D6-BF33-FE0CE850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F9E35E-E857-4FDE-A61B-14EC0C6A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31F55-062F-44CA-8845-8F86767B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37D42-9447-4EB9-A99E-81953328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3CB9C7-7461-47D8-AA3E-5577DE5C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05679-7E53-4646-8CB7-2203FB9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3211-018B-4575-A54D-EFE4E484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118EF-287D-4D54-98B3-B32C127D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655C4-282F-42DF-A117-4516888D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4C3C50-733C-4D7A-8144-08880D89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FB85-DE40-47DC-B881-36BB1744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A97B-FC25-49F6-8062-DB641717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DF0F-9D6A-4D80-AFA1-B6848AF1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1DFE5-AE59-4FA7-9B1A-30530473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E30-2CEB-4C2F-8E27-8450D7B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FB71A-EA9E-40C8-8393-2D3CB10A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EA08B-BE15-463D-850B-140E4B56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134D-FF26-4108-9A58-5D59A53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AF76-5ADE-4A10-8B54-86CFD244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8A5A-9333-424A-8AA4-670C1671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DDF2-EF7E-4DE5-BE1B-3A4E260B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B576-5FA7-435F-B263-43434AEA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BB3D-99E6-40B0-9576-428B4AE4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6ACC-2FF4-486C-A846-BE277231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57E6-B1A6-4176-8D71-33BA3E3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EF0-D1CD-47B9-A0AE-9235F368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A2B1-2945-4A6E-8545-F5F3AA0D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DCE6-9261-4959-A58E-8CA6236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4640-703B-4CE4-862A-9D25F4B2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3759-A02F-49DA-A58D-0F1D1A0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183D4-E9BB-4E2B-9134-14E7528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F5FB7-6690-4CF5-8486-046FE79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BA6F5-3B80-46D4-AA63-8EE75C35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F2EC6-2C1C-47F2-BCF7-AD249937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8DE0-4D8B-44A1-97B5-45D520D6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A72AA-92EE-4FF3-B30A-A3E53A23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5DA-C4A9-4B39-8AF5-1AD6D305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927B6-9FD8-4D9B-BF2F-1EE61791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F1AD3-7906-4E8D-B642-A1B744B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D9DD0-03B3-47E8-802D-E086E294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94CDA-7C03-4639-B789-806A2387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A4078-F0FB-4BB0-9AD9-48634D25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4317D-FA09-4589-B826-DC94DA0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52AF3-A092-4005-B21C-D0F27ED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20693-2A3A-43F3-89E4-47C8CEED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E12F9-1BF5-4F7E-8719-BEBA0581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C104-7C32-4F45-93A5-34FF1891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180-CB29-4516-8750-29A05E40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4D9FF-E11E-489D-944C-748BD01E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A0C2E-D9B1-4490-B0EF-DA096894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0DEA-E49E-4A99-8037-7511D8F9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F9FBA-8C9F-4FED-8B1D-BE4D5DD8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918CB-FE1E-4D11-8422-E34F35D1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A7BFB-E9C3-4939-BE63-962E054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8524A-C841-4D81-9572-A8C93207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9F0AA-FEE1-447C-B967-198D5B44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E65D5-FF37-498E-A719-3D1652A4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EF92-AFA9-41B6-91D1-89858DA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872-0787-4E0B-BF43-775D08C1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AF242-94A0-487D-86E9-E8B73DE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BF12A-D901-4EF7-ABA8-03F215F6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1957E-C074-46C7-8861-9D2195C4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A2B50-A9EF-4CCE-8820-F70C56E1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1F9B-3E97-4749-AE4C-1E86BADD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8AA9C-F9BE-49C2-AA02-8DFF02B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99F28-C370-41F1-B779-7B570219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D8895-ED94-4D8E-9EFC-8D7196F5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68442-F16A-429B-A080-EEE76220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9495-05DA-4B2C-B7F3-2DDFB15C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9A6-B7A1-484F-8288-4058BCED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5A7B-DAAB-4279-AC7B-B18E3A7E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F438F-2740-4D4D-80E5-8CFC7B00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6B6F2-DBCB-449B-B16E-13BE6CE4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7A27A-7ECE-49F6-ABAB-56068C77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442A8-5364-4BDF-A754-B26920EA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70B0A-52F8-45C2-B7D2-73538E3F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35FBB-F1E0-4978-815E-A9A79FE9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EE146-B119-4AD3-9ECB-AD323986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8BE21-3A09-4C0D-8A4D-E954607E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AB993-5ED0-48A5-8345-336EB71A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B49-CA28-4CAB-8FE7-4F7A88B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4F75-9E5C-4A3E-9C32-E7ED8B0C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7BD1-1B76-43C6-9473-0541B5C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AF0B5-8ACD-47B7-A813-8C00D162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30C5F-D7F5-4D8D-9067-C68DD51A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177CB-955C-40E2-8F98-70414A1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80355-3C88-43B4-BFF5-A4C66D25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40B1-1499-4FC8-BFCD-4F92C152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DF3A8-D96F-45E4-980D-5EBC5EB9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04414-89B7-48D7-9591-AEBD1F80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53F8C-F95B-4F60-BAE3-C257884C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BDF9-E8F3-4F83-9BB8-3E9274D4C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C8A1-BEA2-4347-A032-F96787686E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137-0C78-42F4-9018-DBC685F63A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072C-1789-43D9-B939-F874C51316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FFF8-80C7-4982-AE66-E6742ABC6B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AE4A-F255-4926-A4BF-DF491F7EC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837F-8BBD-46C9-B7AC-426DE6A89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B559-022E-4EFE-A221-6300EF7A0D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B9E2-E62E-4DAA-AEF8-7B8FD33789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B3D4-6537-4C6B-9E7B-2A8AF4C62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EEF8-865D-457C-A6A1-51634B2FA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B3D9-E78D-485B-A19E-14ED24F53F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33A-12D4-4736-A633-62BADFFE6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EACE-B8B7-4ACD-AEE0-764C83813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E07-AAA0-4A2B-A2A2-97BB43312A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7893-9971-42E2-94F9-26B3A570F2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8B58-A4C2-4500-8859-D07E6E4133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1CB7-6EC3-4A46-AC18-4717739DFE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3D69-529F-412C-97E5-65144916E8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542E-43CE-459D-9400-839A73E143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9878-6F7F-4F63-A792-103D00432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D10F-872D-4C58-9F95-BEFAFA1CE1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DCF-B6FA-4F3F-8486-5CD3BD0E3A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9F3A-E3AC-4802-93C6-AB6B92F6D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20FA-5B06-420A-82B9-45B5506B6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00BA-1497-4193-8633-C9E2B9BB7F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F804-17A8-438C-BE1E-D7BF2024F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8D37-89E0-4240-A226-82DD1CE8B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17A9-947E-454D-8DD3-810E867F24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5CE3-7976-43AD-98C0-C3B41FF0C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64E6-D703-48E7-9543-48C7323B8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C695-8CC0-4AEC-9FDA-4BD181BD2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24D6-EB9C-424E-BA6E-F8AF3A4E7B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2522-D299-4DDF-B186-9C18B03A5D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5B03-8B79-46D7-AE86-96BC7986AD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1C00-5A5F-4738-A8CC-E9F9B2BF9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8DE5-4B10-4FFC-85E9-B403E0C954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2722-BE55-4610-BB7E-E5FB85D83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F6BF-D679-4604-A4D0-BFBADEBFF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CDDF-BEB2-459E-8AD8-0B5983CFD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500040" y="3071880"/>
            <a:ext cx="78580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182000" cy="20955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419400" cy="438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3"/>
          <a:stretch/>
        </p:blipFill>
        <p:spPr>
          <a:xfrm>
            <a:off x="1547640" y="1557360"/>
            <a:ext cx="419400" cy="4381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"/>
          <p:cNvPicPr/>
          <p:nvPr/>
        </p:nvPicPr>
        <p:blipFill>
          <a:blip r:embed="rId4"/>
          <a:stretch/>
        </p:blipFill>
        <p:spPr>
          <a:xfrm>
            <a:off x="1488960" y="2276640"/>
            <a:ext cx="419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80294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1033560" y="2205000"/>
            <a:ext cx="7076880" cy="2448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2"/>
          <a:stretch/>
        </p:blipFill>
        <p:spPr>
          <a:xfrm>
            <a:off x="1908000" y="3716280"/>
            <a:ext cx="2087640" cy="43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3"/>
          <a:stretch/>
        </p:blipFill>
        <p:spPr>
          <a:xfrm>
            <a:off x="5292720" y="3645000"/>
            <a:ext cx="2087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1285920" y="744480"/>
            <a:ext cx="6846840" cy="60912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3924360" y="1577880"/>
            <a:ext cx="20876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4356000" y="2260440"/>
            <a:ext cx="2087640" cy="438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3348000" y="2940120"/>
            <a:ext cx="208764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3500280" y="3603600"/>
            <a:ext cx="20876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6"/>
          <a:stretch/>
        </p:blipFill>
        <p:spPr>
          <a:xfrm>
            <a:off x="3652920" y="4286160"/>
            <a:ext cx="208764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7"/>
          <a:stretch/>
        </p:blipFill>
        <p:spPr>
          <a:xfrm>
            <a:off x="3805200" y="4960800"/>
            <a:ext cx="208764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8"/>
          <a:stretch/>
        </p:blipFill>
        <p:spPr>
          <a:xfrm>
            <a:off x="3936960" y="5634000"/>
            <a:ext cx="208764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9"/>
          <a:stretch/>
        </p:blipFill>
        <p:spPr>
          <a:xfrm>
            <a:off x="3203640" y="6303960"/>
            <a:ext cx="208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258400" cy="500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1476360" y="2054160"/>
            <a:ext cx="41904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4194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928800" y="1039680"/>
            <a:ext cx="7419960" cy="33242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2" descr=""/>
          <p:cNvPicPr/>
          <p:nvPr/>
        </p:nvPicPr>
        <p:blipFill>
          <a:blip r:embed="rId2"/>
          <a:stretch/>
        </p:blipFill>
        <p:spPr>
          <a:xfrm>
            <a:off x="901800" y="4691160"/>
            <a:ext cx="7362720" cy="1809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3"/>
          <a:stretch/>
        </p:blipFill>
        <p:spPr>
          <a:xfrm>
            <a:off x="1332000" y="1125360"/>
            <a:ext cx="419040" cy="438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4"/>
          <a:stretch/>
        </p:blipFill>
        <p:spPr>
          <a:xfrm>
            <a:off x="1403280" y="3141720"/>
            <a:ext cx="41904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5"/>
          <a:stretch/>
        </p:blipFill>
        <p:spPr>
          <a:xfrm>
            <a:off x="1332000" y="4724280"/>
            <a:ext cx="419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057880" cy="5838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2"/>
          <a:stretch/>
        </p:blipFill>
        <p:spPr>
          <a:xfrm>
            <a:off x="1071720" y="1571760"/>
            <a:ext cx="7896240" cy="11714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3"/>
          <a:stretch/>
        </p:blipFill>
        <p:spPr>
          <a:xfrm>
            <a:off x="6715080" y="2928960"/>
            <a:ext cx="185760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4"/>
          <a:stretch/>
        </p:blipFill>
        <p:spPr>
          <a:xfrm>
            <a:off x="1095480" y="3643200"/>
            <a:ext cx="8048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5"/>
          <a:stretch/>
        </p:blipFill>
        <p:spPr>
          <a:xfrm>
            <a:off x="6643800" y="4879800"/>
            <a:ext cx="1857240" cy="438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6"/>
          <a:stretch/>
        </p:blipFill>
        <p:spPr>
          <a:xfrm>
            <a:off x="6215040" y="4214880"/>
            <a:ext cx="221472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7"/>
          <a:stretch/>
        </p:blipFill>
        <p:spPr>
          <a:xfrm>
            <a:off x="1285920" y="5500800"/>
            <a:ext cx="5210280" cy="11811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8"/>
          <a:stretch/>
        </p:blipFill>
        <p:spPr>
          <a:xfrm>
            <a:off x="6786720" y="5857920"/>
            <a:ext cx="1857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324000" y="800280"/>
            <a:ext cx="8496000" cy="59148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2"/>
          <a:stretch/>
        </p:blipFill>
        <p:spPr>
          <a:xfrm>
            <a:off x="1071720" y="714240"/>
            <a:ext cx="5209920" cy="1067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3"/>
          <a:stretch/>
        </p:blipFill>
        <p:spPr>
          <a:xfrm>
            <a:off x="6500880" y="1033560"/>
            <a:ext cx="1857240" cy="438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4"/>
          <a:stretch/>
        </p:blipFill>
        <p:spPr>
          <a:xfrm>
            <a:off x="1000080" y="1928880"/>
            <a:ext cx="5295960" cy="12571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5"/>
          <a:stretch/>
        </p:blipFill>
        <p:spPr>
          <a:xfrm>
            <a:off x="6500880" y="2286000"/>
            <a:ext cx="1857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Picture 1" descr=""/>
          <p:cNvPicPr/>
          <p:nvPr/>
        </p:nvPicPr>
        <p:blipFill>
          <a:blip r:embed="rId1"/>
          <a:stretch/>
        </p:blipFill>
        <p:spPr>
          <a:xfrm>
            <a:off x="619200" y="1000080"/>
            <a:ext cx="7905600" cy="5505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419400" cy="4384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3"/>
          <a:stretch/>
        </p:blipFill>
        <p:spPr>
          <a:xfrm>
            <a:off x="1258920" y="6021360"/>
            <a:ext cx="419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8:1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